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981-E3E7-4459-A75E-BDE09726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F0C-1F62-497F-A4CC-7D3A25F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F76-7714-433E-9660-5EE55D7B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C33-349B-4A04-9107-C1DCDD2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0FD-9426-4B37-AAA9-6DA14E7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EE6-C609-4ABB-976A-D260C14D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8F4-058E-45D5-BB83-5A53B75E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194-BAF9-4373-B765-7AAC35EE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CAA-9763-4C89-AC79-387F3BCB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AAD-66D1-4E31-A310-0076948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EDD-019E-436E-947F-7675852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C1C-036F-4070-A515-88EA083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C0C6-903B-4E9F-9532-0880249D6C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25360" y="1536840"/>
            <a:ext cx="874260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6582-37BE-401D-A680-0BC2BA9D5F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848040"/>
                <a:gridCol w="1352880"/>
                <a:gridCol w="1352520"/>
                <a:gridCol w="1431720"/>
                <a:gridCol w="800280"/>
              </a:tblGrid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3º QUADRIMESTRE DE 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47.45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887.318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.131,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,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68.397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65.337,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03.060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90.43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90.487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99.951,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3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143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2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719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,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20.18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2.478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47.701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6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8.352.602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1.059.160,3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706.558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7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3.936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.436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5.416.048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953.846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.462.201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3.214.26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.529.488,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.684.771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92.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57.691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4.408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6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679.283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1.716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1.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8.408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7.308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8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7.122.16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0.471.796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.650.363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4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6B6F-5550-4669-94F5-35472B1EDE7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548160"/>
                <a:gridCol w="1430280"/>
                <a:gridCol w="1432080"/>
                <a:gridCol w="1515960"/>
                <a:gridCol w="858960"/>
              </a:tblGrid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3º QUADRIMESTRE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691.41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024.341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67.072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5.887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5.637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49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193.505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70.098,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.623.407,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,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1.230.806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.940.077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290.729,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.192.319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164.941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.027.378,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7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46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3.204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.795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.638.319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698.146,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.940.173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7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8.544.126,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638.223,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9.905.902,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5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804-3019-4E37-80F5-CDF734ECAD1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97160"/>
          <a:ext cx="8712360" cy="4768560"/>
        </p:xfrm>
        <a:graphic>
          <a:graphicData uri="http://schemas.openxmlformats.org/drawingml/2006/table">
            <a:tbl>
              <a:tblPr/>
              <a:tblGrid>
                <a:gridCol w="1932120"/>
                <a:gridCol w="1969920"/>
                <a:gridCol w="1917720"/>
                <a:gridCol w="1913040"/>
                <a:gridCol w="979560"/>
              </a:tblGrid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X DESPESA EXECUTADA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44.103,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04.358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39.744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9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850.261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03.794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46.467,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34.416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39.96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05.548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,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35.430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68.423,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.992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15.728,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44.151,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71.576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98.14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56.683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8.539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40.49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62.980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177.511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,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16.349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68.125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224,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,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783.206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05.502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.322.296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3,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16.060,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213.356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7.29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15.020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116.962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001.941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2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222.584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453.920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68.663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,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0.471.796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638.223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33.573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,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Até o 3º Quadr.2018 a Receita realizada ficou 3,63% superior a Despesa executad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A1A-7EE9-4A45-9CB2-DD22E51F5FB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116760"/>
                <a:gridCol w="1731960"/>
                <a:gridCol w="936720"/>
              </a:tblGrid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60.737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60.737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390.184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.347.223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7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.107.959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7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C8B6-C76E-4D30-8702-04229B7742E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5246640"/>
                <a:gridCol w="2232360"/>
                <a:gridCol w="1306440"/>
              </a:tblGrid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2.164,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79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8.244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112.946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4.271.042,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82,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075.297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05.176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76.219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9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SALDO FINANCEIRO FUNDE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12.025,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: O Município aplicou recursos de outras fontes como complementação para cumpri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com FUNDEB o valor de R$ 473.090,88, sendo R$ 250.530,14 em Julho; R$ 53.934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m Outubro e R$ 168.626,72 em Dezembro/20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E03A-F7A1-4245-98DF-9059DB45D1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467760"/>
                <a:gridCol w="1568160"/>
                <a:gridCol w="749520"/>
              </a:tblGrid>
              <a:tr h="30960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3º QUADRIMESTRE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24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2.316.792,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18.102,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6.734.895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47.518,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265.621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308.747,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5.543.307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9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765.440,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,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5.220.592,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09.906,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,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6902640"/>
                <a:gridCol w="1882800"/>
              </a:tblGrid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1.564,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1.564,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368.567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44.557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5.366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.58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8.05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1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1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2.382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</cp:lastModifiedBy>
  <dcterms:modified xsi:type="dcterms:W3CDTF">2019-02-28T21:18:40Z</dcterms:modified>
  <cp:revision>413</cp:revision>
  <dc:subject/>
  <dc:title>Slide 1</dc:title>
</cp:coreProperties>
</file>