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FC9-D431-42FF-9B12-8B042712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C79-830E-4A39-B074-BCC563B9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87A-5DBB-4062-B165-969C6FBB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6AB-5A86-4AEC-B85F-33071D01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36D-95DB-40C7-8DE0-9BF8AA6F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84F-1462-4D7A-B750-3E0C84A4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FC0-4EAC-4884-AECD-4074D024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EEC-8C3F-4808-B401-B5011EA8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EAB-B879-4744-A99C-695CB927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DE4-A719-46C4-A2DC-F842EB1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7E6-075C-445B-852A-1A9122EA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9C7-36DB-4CCC-B59B-A1C43FF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/2007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05 - 2008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5C49-F488-45CA-8517-115AA52DF76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225360" y="1536840"/>
            <a:ext cx="8742600" cy="477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" descr=""/>
          <p:cNvPicPr/>
          <p:nvPr/>
        </p:nvPicPr>
        <p:blipFill>
          <a:blip r:embed="rId3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1096-AB6A-4B7E-B1F6-AEA43E660B9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848040"/>
                <a:gridCol w="1352880"/>
                <a:gridCol w="1352520"/>
                <a:gridCol w="1431720"/>
                <a:gridCol w="800280"/>
              </a:tblGrid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X REALIZADA - 3º QUADRIMESTRE DE 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8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mpostos, Taxas e Contribuições de Melhori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47.45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887.318,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0.131,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,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Contribui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168.397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965.337,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03.060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atrimon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90.439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90.487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99.951,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3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Agropecuá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143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42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719,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0,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Industr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Serviç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20.18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2.478,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47.701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6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8.352.602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1.059.160,3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706.558,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Receit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7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3.936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6.436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lienação de Be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5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5.416.048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953.846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.462.201,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0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TO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3.214.260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.529.488,7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.684.771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2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092.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057.691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4.408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0,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FUNDEB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61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679.283,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1.716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Outras 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1.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78.408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47.308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88,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RECEITA LÍQU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7.122.160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0.471.796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.650.363,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4,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50E3-7C2A-4EA5-8570-0457FBEA65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548160"/>
                <a:gridCol w="1430280"/>
                <a:gridCol w="1432080"/>
                <a:gridCol w="1515960"/>
                <a:gridCol w="858960"/>
              </a:tblGrid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FIXADA ATUALIZADA X EXECUTADA - 3º QUADRIMESTRE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  FIXADA ATUALIZ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SOCIAI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691.41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024.341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67.072,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E ENCARGOS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5.887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5.637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49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0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.193.505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570.098,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.623.407,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,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1.230.806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7.940.077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290.729,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,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5.192.319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164.941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5.027.378,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7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RSÕES FINANCEIR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MORTIZAÇÃO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46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3.204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.795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6.638.319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698.146,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5.940.173,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7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7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DESPE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8.544.126,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.638.223,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9.905.902,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5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3539-DBB1-43EA-866B-0CBBC3A19A9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97160"/>
          <a:ext cx="8712360" cy="4768560"/>
        </p:xfrm>
        <a:graphic>
          <a:graphicData uri="http://schemas.openxmlformats.org/drawingml/2006/table">
            <a:tbl>
              <a:tblPr/>
              <a:tblGrid>
                <a:gridCol w="1932120"/>
                <a:gridCol w="1969920"/>
                <a:gridCol w="1917720"/>
                <a:gridCol w="1913040"/>
                <a:gridCol w="979560"/>
              </a:tblGrid>
              <a:tr h="233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X DESPESA EXECUTADA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 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44.103,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04.358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339.744,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9,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FEVER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850.261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303.794,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546.467,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RÇ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234.416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39.964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05.548,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,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B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35.430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68.423,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2.992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0,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415.728,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44.151,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71.576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N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398.14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56.683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58.539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L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40.491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162.980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177.511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,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16.349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368.125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.224,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,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ET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783.206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05.502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.322.296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3,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U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116.060,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213.356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7.29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,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V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115.020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116.962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001.941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2,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Z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222.584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453.920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768.663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,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0.471.796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.638.223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33.573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,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3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ta: Até o 3º Quadr.2018 a Receita realizada ficou 3,63% superior a Despesa executad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EB09-FDA6-4210-98A6-922230EDB56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6116760"/>
                <a:gridCol w="1731960"/>
                <a:gridCol w="936720"/>
              </a:tblGrid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EDUCAÇÃO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s 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60.737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60.737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na Educa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390.184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9.347.223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7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9.107.959,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7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C30B-55A6-4E4D-A671-B5878CC85B8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5246640"/>
                <a:gridCol w="2232360"/>
                <a:gridCol w="1306440"/>
              </a:tblGrid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O FUNDEB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 de Recursos d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82.164,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ndimentos de Aplicação Financei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.079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88.244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112.946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Pessoal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4.271.042,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82,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075.297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905.176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76.219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9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SALDO FINANCEIRO FUNDE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              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12.025,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s: O Município aplicou recursos de outras fontes como complementação para cumpri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com FUNDEB o valor de R$ 473.090,88, sendo R$ 250.530,14 em Julho; R$ 53.934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em Outubro e R$ 168.626,72 em Dezembro/20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A414-487B-4012-B575-1C9F7009E3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6467760"/>
                <a:gridCol w="1568160"/>
                <a:gridCol w="749520"/>
              </a:tblGrid>
              <a:tr h="30960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3º QUADRIMESTRE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24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Impostos e de Transferênci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2.316.792,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Transferências do SUS e outr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418.102,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6.734.895,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847.518,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265.621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TOTAL REALIZADA COM SAÚ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308.747,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Empenh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5.543.307,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94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765.440,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,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Liquid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5.220.592,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6,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09.906,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6,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tângulo 3"/>
          <p:cNvGrpSpPr/>
          <p:nvPr/>
        </p:nvGrpSpPr>
        <p:grpSpPr>
          <a:xfrm>
            <a:off x="-252360" y="-30240"/>
            <a:ext cx="9650160" cy="866880"/>
            <a:chOff x="-252360" y="-30240"/>
            <a:chExt cx="9650160" cy="866880"/>
          </a:xfrm>
        </p:grpSpPr>
        <p:pic>
          <p:nvPicPr>
            <p:cNvPr id="84" name="Retângulo 3" descr=""/>
            <p:cNvPicPr/>
            <p:nvPr/>
          </p:nvPicPr>
          <p:blipFill>
            <a:blip r:embed="rId1"/>
            <a:stretch/>
          </p:blipFill>
          <p:spPr>
            <a:xfrm>
              <a:off x="-252360" y="-30240"/>
              <a:ext cx="96501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3"/>
            <p:cNvSpPr/>
            <p:nvPr/>
          </p:nvSpPr>
          <p:spPr>
            <a:xfrm>
              <a:off x="-252360" y="34920"/>
              <a:ext cx="9395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0" rIns="54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400" spc="-1" strike="noStrike">
                  <a:solidFill>
                    <a:srgbClr val="000099"/>
                  </a:solidFill>
                  <a:latin typeface="comic"/>
                </a:rPr>
                <a:t>Câmara Municipal de Iporã</a:t>
              </a:r>
              <a:endParaRPr b="0" lang="en-US" sz="4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6" name="Line 4"/>
          <p:cNvSpPr/>
          <p:nvPr/>
        </p:nvSpPr>
        <p:spPr>
          <a:xfrm flipV="1">
            <a:off x="285840" y="642960"/>
            <a:ext cx="8607240" cy="158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/02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6902640"/>
                <a:gridCol w="1882800"/>
              </a:tblGrid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3º QUADRIMESTRE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Dezembro de 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ANTERI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TERFERÊNCIA FINANCEIRA (PERÍOD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51.564,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51.564,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NO PERÍO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368.567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44.557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G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5.366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P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0.58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8.056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TRA-ORÇAMENTÁ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14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volução de Numerári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repassad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14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2.382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1" descr=""/>
          <p:cNvPicPr/>
          <p:nvPr/>
        </p:nvPicPr>
        <p:blipFill>
          <a:blip r:embed="rId2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421160" y="37162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eus seja louvad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57:10Z</dcterms:created>
  <dc:creator>Ademir</dc:creator>
  <dc:description/>
  <dc:language>en-US</dc:language>
  <cp:lastModifiedBy>Ademir</cp:lastModifiedBy>
  <dcterms:modified xsi:type="dcterms:W3CDTF">2019-02-28T21:18:40Z</dcterms:modified>
  <cp:revision>413</cp:revision>
  <dc:subject/>
  <dc:title>Slide 1</dc:title>
</cp:coreProperties>
</file>