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FA84-D3F9-470E-B1D8-B67C41EBB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03E-5937-4075-A0DD-71D1EA50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702-718C-4846-960E-775AD0537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A7DB-778B-4C68-BCB8-2F914E7CB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49E8-6143-44E7-9EAA-BD18E53D3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BB8B-70D8-49F9-91FD-A0FF8272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EC0-A5E6-4F5C-8B27-7EAF0052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02D-8C34-477E-97DB-767B4C6D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C41-A885-48E3-B83D-B80F880E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967A-4B2A-439B-AD66-EC8D931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03A-1107-4770-A885-FF94BC3D1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9B3D-1289-4E1A-B972-9BDC379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0c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/09/2007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05 - 2008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BBF7-1584-41EF-A67A-E439D94CBF0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7" descr=""/>
          <p:cNvPicPr/>
          <p:nvPr/>
        </p:nvPicPr>
        <p:blipFill>
          <a:blip r:embed="rId2"/>
          <a:stretch/>
        </p:blipFill>
        <p:spPr>
          <a:xfrm>
            <a:off x="231840" y="1536840"/>
            <a:ext cx="8736120" cy="4771800"/>
          </a:xfrm>
          <a:prstGeom prst="rect">
            <a:avLst/>
          </a:prstGeom>
          <a:ln w="0">
            <a:noFill/>
          </a:ln>
        </p:spPr>
      </p:pic>
      <p:pic>
        <p:nvPicPr>
          <p:cNvPr id="43" name="Imagem 1" descr=""/>
          <p:cNvPicPr/>
          <p:nvPr/>
        </p:nvPicPr>
        <p:blipFill>
          <a:blip r:embed="rId3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5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6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FFC4-9753-4F3D-A9C7-3D3BA2569C3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7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3909960"/>
                <a:gridCol w="1374840"/>
                <a:gridCol w="1374840"/>
                <a:gridCol w="1455480"/>
                <a:gridCol w="812880"/>
              </a:tblGrid>
              <a:tr h="2062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X REALIZADA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66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7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REVISTA ATU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mpostos, Taxas e Contribuições de Melho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99.4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352.398,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52.958,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4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Contribuiçõ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01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60.046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58.379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5,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Patrimon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80.105,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8.990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61.115,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2,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Agropecuá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570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.429,5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0,3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Industr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de Serviç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8.3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6.571,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1.795,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1,8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0.933.07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7.412.236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.520.839,7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1,3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Receit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0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4.306,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3.639,4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1,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lienação de Be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s de Capi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826.725,5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369.569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4.457.156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1,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.958.048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7.930.688,9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6.027.359,1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9,7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DUÇÕ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660.404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391.843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8.560,8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,7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573.738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56.043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17.694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3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( - ) Outras Deduçõ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35.800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49.133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2,8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RECEITA LÍQU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9.297.643,3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38.845,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5.758.798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31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22E7-22A3-4292-B065-2916EF6D2034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3605040"/>
                <a:gridCol w="1455840"/>
                <a:gridCol w="1454040"/>
                <a:gridCol w="1540080"/>
                <a:gridCol w="873000"/>
              </a:tblGrid>
              <a:tr h="2541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FIXADA ATUALIZADA X EXECUTADA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23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3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  FIXADA ATU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SOCIAI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.644.563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.735.723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908.839,4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,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E ENCARGOS DA DÍ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13.333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6.146,2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812,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,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809.835,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7.074.939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34.895,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8.667.731,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7.046.809,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.620.922,1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,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STIMENT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2.923.788,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515.615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8.408.172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80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7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VERSÕES FINANCEI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00.0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MORTIZAÇÃO DA DÍVI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63.333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59.777,1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3.556,1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2,3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SPESAS DE CAPI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987.121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875.392,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9.111.729,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79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9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SERVA DE CONTING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RESERVA DE CONTINGÊNC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566.66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0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8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 DESPES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3.221.520,3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1.922.202,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1.299.317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40,0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0B8B-7673-46FA-B3B8-26DBFCBF22B3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1949400"/>
                <a:gridCol w="1990800"/>
                <a:gridCol w="1935000"/>
                <a:gridCol w="1930320"/>
                <a:gridCol w="1122480"/>
              </a:tblGrid>
              <a:tr h="24624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   REALIZ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ECUTAD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FERENÇ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84.172,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39.357,6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544.814,8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FEVER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96.936,6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265.714,9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1.221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,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RÇ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14.086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17.441,7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96.644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2,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BR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008.318,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741.385,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6.933,2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,6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MA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506.144,2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184.840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78.696,7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5,0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N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984.705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679.877,4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304.827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6,1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LH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835.967,9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449.320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613.352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2,6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908.513,5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.944.263,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1.035.750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26,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ET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U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V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ZEMB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#DIV/0!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3.538.845,0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1.922.202,4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616.642,6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,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61640">
                <a:tc gridSpan="5"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Nota: No período a Receita realizada ficou 4,82% superior Despesa executada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3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4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61059-1CBB-4029-A9A5-B94F3BB078E0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5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67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6215040"/>
                <a:gridCol w="1760400"/>
                <a:gridCol w="952560"/>
              </a:tblGrid>
              <a:tr h="4827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EDUCAÇÃO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9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4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1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as 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943.071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943.071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na Educa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985.767,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7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6.183.984,4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5,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5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NA EDUCAÇÃO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6.071.297,2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5,3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1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2CDE-9146-43C1-A079-F6104F0C5EF7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2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4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8000" y="1484280"/>
          <a:ext cx="8856720" cy="4608720"/>
        </p:xfrm>
        <a:graphic>
          <a:graphicData uri="http://schemas.openxmlformats.org/drawingml/2006/table">
            <a:tbl>
              <a:tblPr/>
              <a:tblGrid>
                <a:gridCol w="5289480"/>
                <a:gridCol w="2249640"/>
                <a:gridCol w="1317600"/>
              </a:tblGrid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O FUNDEB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ransferência de Recursos d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82.854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ndimentos de Aplicação Financei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103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85.957,0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Mínima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151.574,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6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Pessoal Magistéri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2.935.627,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81,8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14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434.382,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40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Total Aplicado Outras Despes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611.486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0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FUNDEB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547.114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8,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ff"/>
                          </a:solidFill>
                          <a:latin typeface="Microsoft Tai Le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s. Informamos que para cumprir obrigações da Folha de Pagto dos meses de Junho, Julho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gosto o Município utilizou recursos de outras Fontes no montante de R$ 343.321,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8" name="Espaço Reservado para Número de Slide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35FE-D3D6-4C8C-BC7E-4B9EF1E2859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9" name="Line 2"/>
          <p:cNvSpPr/>
          <p:nvPr/>
        </p:nvSpPr>
        <p:spPr>
          <a:xfrm>
            <a:off x="324000" y="981000"/>
            <a:ext cx="8351640" cy="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24000" y="333360"/>
            <a:ext cx="8351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99"/>
                </a:solidFill>
                <a:latin typeface="comic"/>
              </a:rPr>
              <a:t>SECRETARIA DE FINANÇAS</a:t>
            </a:r>
            <a:endParaRPr b="0" lang="en-US" sz="36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99"/>
                </a:solidFill>
                <a:latin typeface="comic"/>
              </a:rPr>
              <a:t>DEPARTAMENTO DE CONTABILIDADE</a:t>
            </a:r>
            <a:endParaRPr b="0" lang="en-US" sz="1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1" name="Text Box 74"/>
          <p:cNvSpPr/>
          <p:nvPr/>
        </p:nvSpPr>
        <p:spPr>
          <a:xfrm>
            <a:off x="2751120" y="12682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08000" y="1484280"/>
          <a:ext cx="8928000" cy="4681440"/>
        </p:xfrm>
        <a:graphic>
          <a:graphicData uri="http://schemas.openxmlformats.org/drawingml/2006/table">
            <a:tbl>
              <a:tblPr/>
              <a:tblGrid>
                <a:gridCol w="6573960"/>
                <a:gridCol w="1591920"/>
                <a:gridCol w="762120"/>
              </a:tblGrid>
              <a:tr h="30492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6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r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ISCRIMIN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VALOR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%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Impostos e de Transferênc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3.287.596,7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Receitas de Transferências do SUS e outr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.231.229,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5.518.826,5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Aplicação Obrigató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93.139,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5,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APLICAÇÃO OBRIGATÓRI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5.724.369,3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TOTAL REALIZADA COM SAÚ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7.882.968,0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Empenh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4.013.985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7,2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33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43.646,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,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PARTICIPAÇÃO DESPESA PRÓPRIA COM SAÚDE (Liquidad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  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3.868.982,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2060"/>
                          </a:solidFill>
                          <a:latin typeface="Microsoft Tai Le"/>
                        </a:rPr>
                        <a:t>16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S CUSTEADAS COM RECURSOS VINCULADOS (SUS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3.401.972,5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4,6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Retângulo 3"/>
          <p:cNvGrpSpPr/>
          <p:nvPr/>
        </p:nvGrpSpPr>
        <p:grpSpPr>
          <a:xfrm>
            <a:off x="-252360" y="-30240"/>
            <a:ext cx="9650160" cy="866880"/>
            <a:chOff x="-252360" y="-30240"/>
            <a:chExt cx="9650160" cy="866880"/>
          </a:xfrm>
        </p:grpSpPr>
        <p:pic>
          <p:nvPicPr>
            <p:cNvPr id="84" name="Retângulo 3" descr=""/>
            <p:cNvPicPr/>
            <p:nvPr/>
          </p:nvPicPr>
          <p:blipFill>
            <a:blip r:embed="rId1"/>
            <a:stretch/>
          </p:blipFill>
          <p:spPr>
            <a:xfrm>
              <a:off x="-252360" y="-30240"/>
              <a:ext cx="965016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23"/>
            <p:cNvSpPr/>
            <p:nvPr/>
          </p:nvSpPr>
          <p:spPr>
            <a:xfrm>
              <a:off x="-252360" y="34920"/>
              <a:ext cx="939564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0" rIns="54000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4400" spc="-1" strike="noStrike">
                  <a:solidFill>
                    <a:srgbClr val="000099"/>
                  </a:solidFill>
                  <a:latin typeface="comic"/>
                </a:rPr>
                <a:t>Câmara Municipal de Iporã</a:t>
              </a:r>
              <a:endParaRPr b="0" lang="en-US" sz="4400" spc="-1" strike="noStrike">
                <a:solidFill>
                  <a:srgbClr val="000000"/>
                </a:solidFill>
                <a:latin typeface="Bookman Old Style"/>
              </a:endParaRPr>
            </a:p>
          </p:txBody>
        </p:sp>
      </p:grpSp>
      <p:sp>
        <p:nvSpPr>
          <p:cNvPr id="86" name="Line 4"/>
          <p:cNvSpPr/>
          <p:nvPr/>
        </p:nvSpPr>
        <p:spPr>
          <a:xfrm flipV="1">
            <a:off x="285840" y="642960"/>
            <a:ext cx="8607240" cy="15840"/>
          </a:xfrm>
          <a:prstGeom prst="line">
            <a:avLst/>
          </a:prstGeom>
          <a:ln w="127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7" name="Espaço Reservado para Rodapé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GESTÃO 2017 / 2020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88" name="Espaço Reservado para Data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4/09/2019</a:t>
            </a:r>
            <a:endParaRPr b="0" lang="en-US" sz="1200" spc="-1" strike="noStrike">
              <a:solidFill>
                <a:srgbClr val="000000"/>
              </a:solidFill>
              <a:latin typeface="Bookman Old Style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898560"/>
          <a:ext cx="9144000" cy="5316480"/>
        </p:xfrm>
        <a:graphic>
          <a:graphicData uri="http://schemas.openxmlformats.org/drawingml/2006/table">
            <a:tbl>
              <a:tblPr/>
              <a:tblGrid>
                <a:gridCol w="7184880"/>
                <a:gridCol w="1959120"/>
              </a:tblGrid>
              <a:tr h="3096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DICE DE APLICAÇÃO NA SAÚDE - 2º QUADRIMESTRE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8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LC nº 101/2000 - Lei de Dietrizes Orçamentári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aneiro a Agosto de 20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4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ANTERIO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8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INTERFERÊNCIA FINANCEIRA (PERÍODO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54.788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2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TOT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954.788,24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NO PERÍOD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.082.635,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Pessoal e Encarg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814.413,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G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09.244,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brigações Patronais RPP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9.264,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Outras Despesas Corren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139.712,8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Equipamentos e Material Permanen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SPESA EXTRA-ORÇAMENTÁRI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94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Devolução de Numerári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Juros repassados ao Executivo Municip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294,5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SALDO FINANCEIR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                          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Microsoft Tai Le"/>
                        </a:rPr>
                        <a:t>-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Bookman Old Style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fotos iporã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91" name="Imagem 1" descr=""/>
          <p:cNvPicPr/>
          <p:nvPr/>
        </p:nvPicPr>
        <p:blipFill>
          <a:blip r:embed="rId2"/>
          <a:stretch/>
        </p:blipFill>
        <p:spPr>
          <a:xfrm>
            <a:off x="0" y="0"/>
            <a:ext cx="5064120" cy="1224000"/>
          </a:xfrm>
          <a:prstGeom prst="rect">
            <a:avLst/>
          </a:prstGeom>
          <a:ln w="0">
            <a:noFill/>
          </a:ln>
        </p:spPr>
      </p:pic>
      <p:sp>
        <p:nvSpPr>
          <p:cNvPr id="92" name="CaixaDeTexto 3"/>
          <p:cNvSpPr/>
          <p:nvPr/>
        </p:nvSpPr>
        <p:spPr>
          <a:xfrm>
            <a:off x="4421160" y="3716280"/>
            <a:ext cx="25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“</a:t>
            </a: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Deus seja louvado”</a:t>
            </a:r>
            <a:endParaRPr b="0" lang="en-US" sz="20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4T14:57:10Z</dcterms:created>
  <dc:creator>Ademir</dc:creator>
  <dc:description/>
  <dc:language>en-US</dc:language>
  <cp:lastModifiedBy>Ademir Alves Ferreira</cp:lastModifiedBy>
  <cp:lastPrinted>2019-09-19T23:27:29Z</cp:lastPrinted>
  <dcterms:modified xsi:type="dcterms:W3CDTF">2019-09-24T12:22:18Z</dcterms:modified>
  <cp:revision>434</cp:revision>
  <dc:subject/>
  <dc:title>Apresentação do PowerPoint</dc:title>
</cp:coreProperties>
</file>