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C0EA-1BFE-457A-81E5-7A56706A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81AF-0543-44D9-8AD4-3D2F6ECD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25E5-82DB-4ADA-8722-CF1E2FBA6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E692-E205-40B5-A6A2-C7C981F2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1D25-40F1-4839-90A0-3366EDA2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DF00-A8A5-4DAF-AC97-BEEC80E0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C278-F863-42A9-8427-1E470279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3C1A-126E-4674-8CF3-A9A9C2AF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9CB9-7307-4BA7-AF43-0554728A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39F1-A288-41E0-A9D2-2D8531F9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76EC-C9DA-4158-A352-FB3EC733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C92D-A017-42F2-9481-AB916612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5/09/2007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STÃO 2005 - 2008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6A03-5F1C-479C-B0CC-A770D798D75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fotos iporã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7" descr=""/>
          <p:cNvPicPr/>
          <p:nvPr/>
        </p:nvPicPr>
        <p:blipFill>
          <a:blip r:embed="rId2"/>
          <a:stretch/>
        </p:blipFill>
        <p:spPr>
          <a:xfrm>
            <a:off x="231840" y="1536840"/>
            <a:ext cx="8736120" cy="4771800"/>
          </a:xfrm>
          <a:prstGeom prst="rect">
            <a:avLst/>
          </a:prstGeom>
          <a:ln w="0">
            <a:noFill/>
          </a:ln>
        </p:spPr>
      </p:pic>
      <p:pic>
        <p:nvPicPr>
          <p:cNvPr id="43" name="Imagem 1" descr=""/>
          <p:cNvPicPr/>
          <p:nvPr/>
        </p:nvPicPr>
        <p:blipFill>
          <a:blip r:embed="rId3"/>
          <a:stretch/>
        </p:blipFill>
        <p:spPr>
          <a:xfrm>
            <a:off x="0" y="0"/>
            <a:ext cx="50641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4/09/2019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5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6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B34E-68ED-4278-89B8-C37188A67A6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08000" y="1484280"/>
          <a:ext cx="8928000" cy="4681440"/>
        </p:xfrm>
        <a:graphic>
          <a:graphicData uri="http://schemas.openxmlformats.org/drawingml/2006/table">
            <a:tbl>
              <a:tblPr/>
              <a:tblGrid>
                <a:gridCol w="3909960"/>
                <a:gridCol w="1374840"/>
                <a:gridCol w="1374840"/>
                <a:gridCol w="1455480"/>
                <a:gridCol w="812880"/>
              </a:tblGrid>
              <a:tr h="20628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PREVISTA ATUALIZADA X REALIZADA - 2º QUADRIMESTRE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664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Agosto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7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PREVISTA ATUALIZAD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REALIZAD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FERENÇ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mpostos, Taxas e Contribuições de Melhori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699.44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352.398,5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652.958,5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4,6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de Contribuiçõ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001.666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460.046,2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58.379,6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5,7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Patrimoni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80.105,8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18.990,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61.115,7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42,3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Agropecuár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8.0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570,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.429,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80,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Industri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0.0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0.0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de Serviç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8.366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6.571,3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1.795,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1,8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ransferências Corrent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0.933.076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7.412.236,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.520.839,7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1,3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utras Receitas Corrent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0.666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4.306,0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3.639,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11,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lienação de Ben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0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0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4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ransferências de Capi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7.826.725,5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369.569,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4.457.156,3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81,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TO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3.958.048,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7.930.688,9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6.027.359,1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9,7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DUÇÕ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660.404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391.843,8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68.560,8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5,7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( - ) FUNDEB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573.738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956.043,2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17.694,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3,5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( - ) Outras Deduçõ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86.666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35.800,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49.133,9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02,8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4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A RECEITA LÍQUI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9.297.643,3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3.538.845,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5.758.798,3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1,9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4/09/2019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302A-FF5B-46B6-AB24-E2A65EDF141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3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08000" y="1484280"/>
          <a:ext cx="8928000" cy="4681440"/>
        </p:xfrm>
        <a:graphic>
          <a:graphicData uri="http://schemas.openxmlformats.org/drawingml/2006/table">
            <a:tbl>
              <a:tblPr/>
              <a:tblGrid>
                <a:gridCol w="3605040"/>
                <a:gridCol w="1455840"/>
                <a:gridCol w="1454040"/>
                <a:gridCol w="1540080"/>
                <a:gridCol w="873000"/>
              </a:tblGrid>
              <a:tr h="25416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FIXADA ATUALIZADA X EXECUTADA - 2º QUADRIMESTRE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496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Agosto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3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  FIXADA ATUALIZAD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EXECUTAD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FERENÇ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7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PESSOAL E ENCARGOS SOCIA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0.644.563,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9.735.723,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908.839,4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8,5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UROS E ENCARGOS DA DÍVI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13.333,3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36.146,2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2.812,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0,6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UTRAS DESPESAS CORRENT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7.809.835,2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7.074.939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734.895,5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4,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SPESAS CORRENT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8.667.731,7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7.046.809,6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.620.922,1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5,6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7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VESTIMEN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2.923.788,5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515.615,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8.408.172,9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80,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7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VERSÕES FINANCEIR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00.0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00.0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MORTIZAÇÃO DA DÍVI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63.333,3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59.777,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3.556,1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2,3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SPESAS DE CAPI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3.987.121,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875.392,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9.111.729,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79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SERVA DE CONTINGÊNC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66.666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566.666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RESERVA DE CONTINGÊNC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66.666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566.666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A DESPE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3.221.520,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1.922.202,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1.299.317,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40,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4/09/2019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7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8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4CB7-10EC-4AAA-9C10-02BF75F3D1A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9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8000" y="1484280"/>
          <a:ext cx="8928000" cy="4681440"/>
        </p:xfrm>
        <a:graphic>
          <a:graphicData uri="http://schemas.openxmlformats.org/drawingml/2006/table">
            <a:tbl>
              <a:tblPr/>
              <a:tblGrid>
                <a:gridCol w="1949400"/>
                <a:gridCol w="1990800"/>
                <a:gridCol w="1935000"/>
                <a:gridCol w="1930320"/>
                <a:gridCol w="1122480"/>
              </a:tblGrid>
              <a:tr h="24624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Agosto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2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  REALIZAD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EXECUTAD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FERENÇ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8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784.172,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239.357,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544.814,8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0,8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8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FEVEREI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596.936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265.714,9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31.221,6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9,2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8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MARÇ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914.086,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417.441,7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96.644,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2,6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BR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008.318,3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741.385,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66.933,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,6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8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MA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506.144,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184.840,9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78.696,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5,0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8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UNH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984.705,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679.877,4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304.827,6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6,1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8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ULH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835.967,9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449.320,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13.352,9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2,6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GOS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908.513,5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944.263,5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.035.750,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6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8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SETEMB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8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UTUB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8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NOVEMB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ZEMB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3.538.845,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1.922.202,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616.642,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,8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61640">
                <a:tc gridSpan="5"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Nota: No período a Receita realizada ficou 4,82% superior Despesa executada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4/09/2019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3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EC9A-C3D1-4DAB-9705-4DC7781D52A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5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7" name="Text Box 74"/>
          <p:cNvSpPr/>
          <p:nvPr/>
        </p:nvSpPr>
        <p:spPr>
          <a:xfrm>
            <a:off x="2751120" y="1268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08000" y="1484280"/>
          <a:ext cx="8928000" cy="4681440"/>
        </p:xfrm>
        <a:graphic>
          <a:graphicData uri="http://schemas.openxmlformats.org/drawingml/2006/table">
            <a:tbl>
              <a:tblPr/>
              <a:tblGrid>
                <a:gridCol w="6215040"/>
                <a:gridCol w="1760400"/>
                <a:gridCol w="952560"/>
              </a:tblGrid>
              <a:tr h="4827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DICE DE APLICAÇÃO NA EDUCAÇÃO - 2º QUADRIMESTRE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9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Agosto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VALOR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as Receitas de Impostos e de Transferênci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3.943.071,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 RECURS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3.943.071,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8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plicação Mínima na Educaçã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985.767,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5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7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TOTAL APLICADO NA EDUCAÇÃO (Empenhada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6.183.984,4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25,8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TOTAL APLICADO NA EDUCAÇÃO (Liquidada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6.071.297,2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25,3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4/09/2019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0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1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1667-00C6-43D7-A480-7942DB4A078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2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4" name="Text Box 74"/>
          <p:cNvSpPr/>
          <p:nvPr/>
        </p:nvSpPr>
        <p:spPr>
          <a:xfrm>
            <a:off x="2751120" y="1268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8000" y="1484280"/>
          <a:ext cx="8856720" cy="4608720"/>
        </p:xfrm>
        <a:graphic>
          <a:graphicData uri="http://schemas.openxmlformats.org/drawingml/2006/table">
            <a:tbl>
              <a:tblPr/>
              <a:tblGrid>
                <a:gridCol w="5289480"/>
                <a:gridCol w="2249640"/>
                <a:gridCol w="1317600"/>
              </a:tblGrid>
              <a:tr h="2872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DICE DE APLICAÇÃO NO FUNDEB - 2º QUADRIMESTRE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2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2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Agosto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VALOR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ransferência de Recursos do FUNDEB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582.854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8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ndimentos de Aplicação Financeir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103,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 Recurs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585.957,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plicação Mínima Magistér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151.574,2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Total Aplicado Pessoal Magistér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2.935.627,9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81,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plicação Outras despes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434.382,8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8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Total Aplicado Outras Despes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  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611.486,6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17,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APLICAÇÃO FUNDEB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547.114,6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98,9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ff"/>
                          </a:solidFill>
                          <a:latin typeface="Microsoft Tai L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2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bs. Informamos que para cumprir obrigações da Folha de Pagto dos meses de Junho, Julho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6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gosto o Município utilizou recursos de outras Fontes no montante de R$ 343.321,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4/09/2019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1B56-FCDC-4BB7-978A-B8D943BBDBF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1" name="Text Box 74"/>
          <p:cNvSpPr/>
          <p:nvPr/>
        </p:nvSpPr>
        <p:spPr>
          <a:xfrm>
            <a:off x="2751120" y="1268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08000" y="1484280"/>
          <a:ext cx="8928000" cy="4681440"/>
        </p:xfrm>
        <a:graphic>
          <a:graphicData uri="http://schemas.openxmlformats.org/drawingml/2006/table">
            <a:tbl>
              <a:tblPr/>
              <a:tblGrid>
                <a:gridCol w="6573960"/>
                <a:gridCol w="1591920"/>
                <a:gridCol w="762120"/>
              </a:tblGrid>
              <a:tr h="30492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DICE DE APLICAÇÃO NA SAÚDE - 2º QUADRIMESTRE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63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Agosto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VALOR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s de Impostos e de Transferênci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3.287.596,7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s de Transferências do SUS e outr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231.229,8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 RECURS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5.518.826,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plicação Obrigatór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493.139,5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5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APLICAÇÃO OBRIGATÓR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724.369,3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TOTAL REALIZADA COM SAÚD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7.882.968,0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PARTICIPAÇÃO DESPESA PRÓPRIA COM SAÚDE (Empenhada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4.013.985,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17,2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34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S CUSTEADAS COM RECURSOS VINCULADOS (SUS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443.646,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4,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PARTICIPAÇÃO DESPESA PRÓPRIA COM SAÚDE (Liquidada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3.868.982,1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16,6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S CUSTEADAS COM RECURSOS VINCULADOS (SUS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401.972,5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4,6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Retângulo 3"/>
          <p:cNvGrpSpPr/>
          <p:nvPr/>
        </p:nvGrpSpPr>
        <p:grpSpPr>
          <a:xfrm>
            <a:off x="-252360" y="-30240"/>
            <a:ext cx="9650160" cy="866880"/>
            <a:chOff x="-252360" y="-30240"/>
            <a:chExt cx="9650160" cy="866880"/>
          </a:xfrm>
        </p:grpSpPr>
        <p:pic>
          <p:nvPicPr>
            <p:cNvPr id="84" name="Retângulo 3" descr=""/>
            <p:cNvPicPr/>
            <p:nvPr/>
          </p:nvPicPr>
          <p:blipFill>
            <a:blip r:embed="rId1"/>
            <a:stretch/>
          </p:blipFill>
          <p:spPr>
            <a:xfrm>
              <a:off x="-252360" y="-30240"/>
              <a:ext cx="965016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23"/>
            <p:cNvSpPr/>
            <p:nvPr/>
          </p:nvSpPr>
          <p:spPr>
            <a:xfrm>
              <a:off x="-252360" y="34920"/>
              <a:ext cx="9395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0" rIns="54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4400" spc="-1" strike="noStrike">
                  <a:solidFill>
                    <a:srgbClr val="000099"/>
                  </a:solidFill>
                  <a:latin typeface="comic"/>
                </a:rPr>
                <a:t>Câmara Municipal de Iporã</a:t>
              </a:r>
              <a:endParaRPr b="0" lang="en-US" sz="4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86" name="Line 4"/>
          <p:cNvSpPr/>
          <p:nvPr/>
        </p:nvSpPr>
        <p:spPr>
          <a:xfrm flipV="1">
            <a:off x="285840" y="642960"/>
            <a:ext cx="8607240" cy="1584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7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8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4/09/2019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898560"/>
          <a:ext cx="9144000" cy="5316480"/>
        </p:xfrm>
        <a:graphic>
          <a:graphicData uri="http://schemas.openxmlformats.org/drawingml/2006/table">
            <a:tbl>
              <a:tblPr/>
              <a:tblGrid>
                <a:gridCol w="7184880"/>
                <a:gridCol w="1959120"/>
              </a:tblGrid>
              <a:tr h="3096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DICE DE APLICAÇÃO NA SAÚDE - 2º QUADRIMESTRE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8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Agosto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4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SALDO FINANCEIRO ANTERIO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TERFERÊNCIA FINANCEIRA (PERÍODO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954.788,2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3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954.788,2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NO PERÍOD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082.635,1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Pessoal e Encarg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814.413,6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8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brigações Patronais RGP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09.244,4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brigações Patronais RPP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9.264,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utras Despesas Corrent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39.712,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2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Equipamentos e Material Permanen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EXTRA-ORÇAMENTÁRI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94,5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volução de Numerários ao Executivo Municip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2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uros repassados ao Executivo Municip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94,5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SALDO FINANCEI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fotos iporã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91" name="Imagem 1" descr=""/>
          <p:cNvPicPr/>
          <p:nvPr/>
        </p:nvPicPr>
        <p:blipFill>
          <a:blip r:embed="rId2"/>
          <a:stretch/>
        </p:blipFill>
        <p:spPr>
          <a:xfrm>
            <a:off x="0" y="0"/>
            <a:ext cx="5064120" cy="1224000"/>
          </a:xfrm>
          <a:prstGeom prst="rect">
            <a:avLst/>
          </a:prstGeom>
          <a:ln w="0">
            <a:noFill/>
          </a:ln>
        </p:spPr>
      </p:pic>
      <p:sp>
        <p:nvSpPr>
          <p:cNvPr id="92" name="CaixaDeTexto 3"/>
          <p:cNvSpPr/>
          <p:nvPr/>
        </p:nvSpPr>
        <p:spPr>
          <a:xfrm>
            <a:off x="4421160" y="3716280"/>
            <a:ext cx="25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Deus seja louvado”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4:57:10Z</dcterms:created>
  <dc:creator>Ademir</dc:creator>
  <dc:description/>
  <dc:language>en-US</dc:language>
  <cp:lastModifiedBy>Ademir Alves Ferreira</cp:lastModifiedBy>
  <cp:lastPrinted>2019-09-19T23:27:29Z</cp:lastPrinted>
  <dcterms:modified xsi:type="dcterms:W3CDTF">2019-09-24T12:22:18Z</dcterms:modified>
  <cp:revision>434</cp:revision>
  <dc:subject/>
  <dc:title>Apresentação do PowerPoint</dc:title>
</cp:coreProperties>
</file>