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BF3-CF90-4534-9DDE-F72FA7A9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0E1-0646-4A41-8273-9A9676F9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C67-33F4-45FA-A71B-EFFC5371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3BB-7807-4FFA-9736-E8441874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7C4-2867-46E0-B793-705E75FF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6B2-117D-45D8-993E-2E11A57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E8C-4C1E-4658-8EC4-042BCCF3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4F8-199A-4BDE-AB4F-81D9979E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F7F-FBB2-4EFB-9FE6-F4826B2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F1E-CE0C-4EC4-A538-A6EE0FDB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5BD-C0AB-4955-853C-4189BC3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DDB-BB4B-4950-A398-66FD21E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152-87E9-400D-BEF8-C1B2DD17DAF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31840" y="1536840"/>
            <a:ext cx="873612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E43F-9191-4A51-A88B-C81AA1B405D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3909960"/>
                <a:gridCol w="1374840"/>
                <a:gridCol w="1374840"/>
                <a:gridCol w="1455480"/>
                <a:gridCol w="812880"/>
              </a:tblGrid>
              <a:tr h="206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99.4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52.398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52.958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4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01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60.046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8.379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80.105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8.990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61.115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2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70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429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8.3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.571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1.795,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1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.933.07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7.412.236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520.839,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,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0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4.306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.639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1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826.725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69.569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4.457.156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1,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958.048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.930.688,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6.027.359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,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660.404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391.843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8.560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73.73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56.043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17.694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5.800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9.133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2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9.297.643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38.845,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.758.798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1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9724-B8D8-462A-B62D-32A6A9D8071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3605040"/>
                <a:gridCol w="1455840"/>
                <a:gridCol w="1454040"/>
                <a:gridCol w="1540080"/>
                <a:gridCol w="873000"/>
              </a:tblGrid>
              <a:tr h="2541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644.56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735.72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08.839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3.333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6.146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812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,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809.835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074.939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34.895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.667.73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7.046.809,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.620.922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923.788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15.615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8.408.172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3.333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59.777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3.556,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2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87.121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75.392,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9.111.729,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9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221.52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1.922.202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1.299.317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0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2632-442C-4E6E-8E3B-1C04A53A2D2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1949400"/>
                <a:gridCol w="1990800"/>
                <a:gridCol w="1935000"/>
                <a:gridCol w="1930320"/>
                <a:gridCol w="1122480"/>
              </a:tblGrid>
              <a:tr h="246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84.172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39.357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44.814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96.93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65.714,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1.221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,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14.086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17.44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96.644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,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8.318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41.385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6.93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,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06.144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4.840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8.696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984.705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79.877,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304.827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,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35.967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449.320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13.352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,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08.51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944.263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.035.750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38.845,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1.922.202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16.642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,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6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No período a Receita realizada ficou 4,82% superior Despesa executada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37AC-AF25-4C98-9FA5-1A7EAB39445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6215040"/>
                <a:gridCol w="1760400"/>
                <a:gridCol w="952560"/>
              </a:tblGrid>
              <a:tr h="4827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43.07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43.07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85.767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.183.984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5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.071.297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5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F3CB-4052-4A08-8152-9759F41CFB1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8000" y="1484280"/>
          <a:ext cx="8856720" cy="4608720"/>
        </p:xfrm>
        <a:graphic>
          <a:graphicData uri="http://schemas.openxmlformats.org/drawingml/2006/table">
            <a:tbl>
              <a:tblPr/>
              <a:tblGrid>
                <a:gridCol w="5289480"/>
                <a:gridCol w="2249640"/>
                <a:gridCol w="1317600"/>
              </a:tblGrid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82.85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103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85.957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51.574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935.627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81,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34.382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11.486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47.11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8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. Informamos que para cumprir obrigações da Folha de Pagto dos meses de Junho, Julho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o Município utilizou recursos de outras Fontes no montante de R$ 343.321,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75DC-1CD3-47D3-8E2E-49C3AA48228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6573960"/>
                <a:gridCol w="1591920"/>
                <a:gridCol w="762120"/>
              </a:tblGrid>
              <a:tr h="304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287.596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31.229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518.826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93.139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724.369,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882.968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4.013.985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43.646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3.868.982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01.972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898560"/>
          <a:ext cx="9144000" cy="5316480"/>
        </p:xfrm>
        <a:graphic>
          <a:graphicData uri="http://schemas.openxmlformats.org/drawingml/2006/table">
            <a:tbl>
              <a:tblPr/>
              <a:tblGrid>
                <a:gridCol w="7184880"/>
                <a:gridCol w="1959120"/>
              </a:tblGrid>
              <a:tr h="3096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4.78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4.78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82.635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14.413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9.244,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9.264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9.712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quipamentos e Material Perman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94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94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 Alves Ferreira</cp:lastModifiedBy>
  <cp:lastPrinted>2019-09-19T23:27:29Z</cp:lastPrinted>
  <dcterms:modified xsi:type="dcterms:W3CDTF">2019-09-24T12:22:18Z</dcterms:modified>
  <cp:revision>434</cp:revision>
  <dc:subject/>
  <dc:title>Apresentação do PowerPoint</dc:title>
</cp:coreProperties>
</file>