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9C1-ED50-4E86-8E8C-2C5BAC04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D86-C144-43CE-B659-33913786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6DA-8C16-49A4-93DA-5538AB1D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283-AB7F-4F0D-A2D9-64FACC95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AEE-8AD7-4F02-A5C4-CABF28DA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465-7D9D-46CC-9FCA-239EC2B7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2E9-55FA-4883-A170-BC4778BE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A2C-78C6-49F2-9D5F-06F545E2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241-18F1-4440-A5CA-0BF90AB8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30E-FEDA-46CF-BDE5-F7298FD6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238-6920-4BBB-A478-4EEA0B53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2B2-0299-482D-9F09-F4A2C558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/09/2007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05 - 2008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DA53-31E5-4F5A-B1FD-7CCF2B7BB33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7" descr=""/>
          <p:cNvPicPr/>
          <p:nvPr/>
        </p:nvPicPr>
        <p:blipFill>
          <a:blip r:embed="rId2"/>
          <a:stretch/>
        </p:blipFill>
        <p:spPr>
          <a:xfrm>
            <a:off x="225360" y="1536840"/>
            <a:ext cx="8742600" cy="47718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1" descr=""/>
          <p:cNvPicPr/>
          <p:nvPr/>
        </p:nvPicPr>
        <p:blipFill>
          <a:blip r:embed="rId3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07C2-3A18-4224-B93A-835A3F0A802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3848040"/>
                <a:gridCol w="1352880"/>
                <a:gridCol w="1352520"/>
                <a:gridCol w="1431720"/>
                <a:gridCol w="800280"/>
              </a:tblGrid>
              <a:tr h="2095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X REALIZADA - 1º QUADRIMESTRE DE 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8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mpostos, Taxas e Contribuições de Melhori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06.386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48.645,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2.259,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Contribui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84.166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7.67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3.509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atrimon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88.996,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2.581,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6.414,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5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Agropecuá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4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.84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6,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Industr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Serviç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4.18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4.494,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.688,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4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.946.33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.984.088,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37.752,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,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Receit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6.302,8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969,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7,7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lienação de Be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de Capi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.557.436,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57.484,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.499.951,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7,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TO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4.041.838,5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.666.427,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.375.410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,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DU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330.202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98.098,6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2.103,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,3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FUNDEB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86.869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157.809,0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29.059,9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,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94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Outras Dedu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40.289,6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6.956,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3,7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RECEITA LÍQU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.711.636,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368.329,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.343.306,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9,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C255-4BB7-491B-B278-FFBEB49C865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3548160"/>
                <a:gridCol w="1430280"/>
                <a:gridCol w="1432080"/>
                <a:gridCol w="1515960"/>
                <a:gridCol w="858960"/>
              </a:tblGrid>
              <a:tr h="25704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FIXADA ATUALIZADA X EXECUTADA - 1º QUADRIMESTRE DE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  FIXADA ATUALIZ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SOCIAI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372.024,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730.771,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41.253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1,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E ENCARGOS DA DÍV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6.666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6.600,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.933,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,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.692.843,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.809.459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6.615,9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,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.171.534,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.656.831,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14.703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,9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STIMENT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123.184,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.733.065,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609.881,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,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RSÕES FINANCEIR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0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0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MORTIZAÇÃO DA DÍV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1.666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8.240,8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3.425,7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3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DE CAPI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654.850,9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.911.306,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56.455,9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9,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SERVA DE CONTINGÊNC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8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RESERVA DE CONTINGÊNC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8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DESPES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.109.718,9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6.568.138,0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58.419,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,8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D8FE-1166-454A-A2A9-C9FB00B4DF1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484280"/>
          <a:ext cx="8785440" cy="4680000"/>
        </p:xfrm>
        <a:graphic>
          <a:graphicData uri="http://schemas.openxmlformats.org/drawingml/2006/table">
            <a:tbl>
              <a:tblPr/>
              <a:tblGrid>
                <a:gridCol w="1919520"/>
                <a:gridCol w="1957320"/>
                <a:gridCol w="1903320"/>
                <a:gridCol w="1900440"/>
                <a:gridCol w="1104840"/>
              </a:tblGrid>
              <a:tr h="2271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X DESPESA EXECUTADA - 1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  RE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784.172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221.904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62.268,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4,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FEVER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96.738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914.193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82.544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8,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RÇ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79.278,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738.076,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1.758.797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95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B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008.318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693.963,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85.645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7,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N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L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GOS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ET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U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V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Z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368.508,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6.568.138,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1.199.629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2,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54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ta: No período a Receita realizada ficou -72,87% inferior Despesa executada, em virtude de Empenho de Convênio cuja receita ainda não foi liberada, conforme mostrado no mês de março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5DC9-C149-4441-898F-C9854E5C7BA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6116760"/>
                <a:gridCol w="1731960"/>
                <a:gridCol w="936720"/>
              </a:tblGrid>
              <a:tr h="488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EDUCAÇÃO - 1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s Receitas de Impostos e de Transferênc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915.454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915.454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na Educa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978.863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Empenh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.874.883,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4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Liquid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.852.204,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3,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7B92-EDEC-47D4-B24A-C4DCB765E9C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484280"/>
          <a:ext cx="8785440" cy="4680000"/>
        </p:xfrm>
        <a:graphic>
          <a:graphicData uri="http://schemas.openxmlformats.org/drawingml/2006/table">
            <a:tbl>
              <a:tblPr/>
              <a:tblGrid>
                <a:gridCol w="5246640"/>
                <a:gridCol w="2232360"/>
                <a:gridCol w="1306440"/>
              </a:tblGrid>
              <a:tr h="311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O FUNDEB - 1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4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 de Recursos d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976.521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ndimentos de Aplicação Financei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732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978.253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186.952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Pessoal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.567.283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79,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91.301,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322.590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6,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89.873,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5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SALDO FINANCEIRO FUNDEB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                </a:t>
                      </a: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88.380,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4,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s: O Saldo financeiro, caso persista, será para pagar o 13º Salá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641E-5134-4F7F-8796-9B8E80801E2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1484280"/>
          <a:ext cx="8785440" cy="4680000"/>
        </p:xfrm>
        <a:graphic>
          <a:graphicData uri="http://schemas.openxmlformats.org/drawingml/2006/table">
            <a:tbl>
              <a:tblPr/>
              <a:tblGrid>
                <a:gridCol w="6467760"/>
                <a:gridCol w="1568160"/>
                <a:gridCol w="749520"/>
              </a:tblGrid>
              <a:tr h="30492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1º QUADRIMESTRE DE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Impostos e de Transferênci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915.454,6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Transferências do SUS e outr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60.821,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.676.276,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brigató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787.318,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OBRIGATÓ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548.139,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TOTAL REALIZADA COM SAÚ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702.091,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Empenhad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.025.154,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51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69.684,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,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Liquidad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.676.936,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4,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622.836,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,6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etângulo 3"/>
          <p:cNvGrpSpPr/>
          <p:nvPr/>
        </p:nvGrpSpPr>
        <p:grpSpPr>
          <a:xfrm>
            <a:off x="-252360" y="-30240"/>
            <a:ext cx="9650160" cy="866880"/>
            <a:chOff x="-252360" y="-30240"/>
            <a:chExt cx="9650160" cy="866880"/>
          </a:xfrm>
        </p:grpSpPr>
        <p:pic>
          <p:nvPicPr>
            <p:cNvPr id="84" name="Retângulo 3" descr=""/>
            <p:cNvPicPr/>
            <p:nvPr/>
          </p:nvPicPr>
          <p:blipFill>
            <a:blip r:embed="rId1"/>
            <a:stretch/>
          </p:blipFill>
          <p:spPr>
            <a:xfrm>
              <a:off x="-252360" y="-30240"/>
              <a:ext cx="96501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3"/>
            <p:cNvSpPr/>
            <p:nvPr/>
          </p:nvSpPr>
          <p:spPr>
            <a:xfrm>
              <a:off x="-252360" y="34920"/>
              <a:ext cx="9395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0" rIns="54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400" spc="-1" strike="noStrike">
                  <a:solidFill>
                    <a:srgbClr val="000099"/>
                  </a:solidFill>
                  <a:latin typeface="comic"/>
                </a:rPr>
                <a:t>Câmara Municipal de Iporã</a:t>
              </a:r>
              <a:endParaRPr b="0" lang="en-US" sz="4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6" name="Line 4"/>
          <p:cNvSpPr/>
          <p:nvPr/>
        </p:nvSpPr>
        <p:spPr>
          <a:xfrm flipV="1">
            <a:off x="285840" y="642960"/>
            <a:ext cx="8607240" cy="158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6902640"/>
                <a:gridCol w="1882800"/>
              </a:tblGrid>
              <a:tr h="3049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1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ANTERI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TERFERÊNCIA FINANCEIRA (PERÍOD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76.394,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76.394,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NO PERÍO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43.522,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8.100,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G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3.092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P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.737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2.590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Equipamentos e Material Permane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TRA-ORÇAMENTÁR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4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volução de Numerári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repassad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4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2.767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Imagem 1" descr=""/>
          <p:cNvPicPr/>
          <p:nvPr/>
        </p:nvPicPr>
        <p:blipFill>
          <a:blip r:embed="rId2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3"/>
          <p:cNvSpPr/>
          <p:nvPr/>
        </p:nvSpPr>
        <p:spPr>
          <a:xfrm>
            <a:off x="4421160" y="371628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Deus seja louvad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4:57:10Z</dcterms:created>
  <dc:creator>Ademir</dc:creator>
  <dc:description/>
  <dc:language>en-US</dc:language>
  <cp:lastModifiedBy>Ademir</cp:lastModifiedBy>
  <dcterms:modified xsi:type="dcterms:W3CDTF">2019-06-24T13:49:26Z</dcterms:modified>
  <cp:revision>425</cp:revision>
  <dc:subject/>
  <dc:title>Slide 1</dc:title>
</cp:coreProperties>
</file>