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DDE-D70B-4C39-B46F-D58473F95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9F5-B959-40E1-BEBC-7458DA20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E91-7B41-4F99-9681-214BACCE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6C0D-6FA1-4600-BA87-B05049F8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495E-5BAB-40D1-B886-01259B87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95E0-B829-494F-8C95-6FCF4ABC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C6B-8F77-4A8A-B669-12F0B342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1C6-2718-4CFD-9166-C28FFF26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D657-02F9-4357-832F-01AF9647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949-48A4-4526-AF48-96191DDF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5C5-89ED-4358-AB87-A248AF4F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9AA-3B12-4739-8B9E-1E0052B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14CF-EB0A-4CB2-8039-19FADA5C6AE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25360" y="1536840"/>
            <a:ext cx="874260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5DC5-19AD-40FE-A710-78E151F9DE42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848040"/>
                <a:gridCol w="1352880"/>
                <a:gridCol w="1352520"/>
                <a:gridCol w="1431720"/>
                <a:gridCol w="800280"/>
              </a:tblGrid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1º QUADRIMESTRE DE 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952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8880">
                <a:tc gridSpan="5">
                  <a:txBody>
                    <a:bodyPr lIns="7920" rIns="7920" tIns="79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840"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06.38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48.645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2.259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84.1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7.67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3.509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8.996,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2.581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6.414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5,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4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84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6,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.18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.494,8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.688,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,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946.336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984.088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37.752,1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,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6.302,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69,5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7,7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004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832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557.436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57.484,2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.499.951,8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7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4.041.838,5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666.427,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375.410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330.202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98.098,6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2.103,6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,3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6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86.869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57.809,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9.059,9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6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40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0.289,6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6.956,2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3,7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9760">
                <a:tc>
                  <a:txBody>
                    <a:bodyPr lIns="7920" rIns="7920" tIns="79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.711.636,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368.329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343.306,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920" rIns="7920" tIns="792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,2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7920" marR="79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A965-0ED0-4EA2-931D-1C30FFE2879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3548160"/>
                <a:gridCol w="1430280"/>
                <a:gridCol w="1432080"/>
                <a:gridCol w="1515960"/>
                <a:gridCol w="858960"/>
              </a:tblGrid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1º QUADRIMESTRE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gridSpan="5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1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72.024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730.771,9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41.253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6.6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6.600,2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933,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,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692.843,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809.459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6.615,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,5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171.534,7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656.831,2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14.703,5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123.184,2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733.065,9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609.881,6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,4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26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00.0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1.666,67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8.240,8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3.425,7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3,0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654.850,9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.911.306,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56.455,9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9,36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5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83.333,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109.718,9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.568.138,0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58.419,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,8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27BD-345D-4F54-A871-DB28943CEB1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1919520"/>
                <a:gridCol w="1957320"/>
                <a:gridCol w="1903320"/>
                <a:gridCol w="1900440"/>
                <a:gridCol w="1104840"/>
              </a:tblGrid>
              <a:tr h="2271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X DESPESA EXECUTADA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00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9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84.172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21.904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2.268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96.738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914.19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82.544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8,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79.278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738.076,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.758.797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5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8.318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693.963,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85.645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7,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7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0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.368.508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.568.138,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.199.629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2,8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254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No período a Receita realizada ficou -72,87% inferior Despesa executada, em virtude de Empenho de Convênio cuja receita ainda não foi liberada, conforme mostrado no mês de março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EF38-9CE5-4038-A7BF-DAF25295ACC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9280" y="1413000"/>
          <a:ext cx="8785440" cy="4752720"/>
        </p:xfrm>
        <a:graphic>
          <a:graphicData uri="http://schemas.openxmlformats.org/drawingml/2006/table">
            <a:tbl>
              <a:tblPr/>
              <a:tblGrid>
                <a:gridCol w="6116760"/>
                <a:gridCol w="1731960"/>
                <a:gridCol w="936720"/>
              </a:tblGrid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8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978.863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874.883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4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852.204,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3,9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E9BF-00B4-418F-A376-2C86399CD4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5246640"/>
                <a:gridCol w="2232360"/>
                <a:gridCol w="1306440"/>
              </a:tblGrid>
              <a:tr h="31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40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76.521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32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978.253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186.952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.567.283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79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91.301,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322.59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89.873,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SALDO FINANCEIRO FUNDEB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88.380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4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: O Saldo financeiro, caso persista, será para pagar o 13º Sal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7659-30F9-477B-90C9-F251382FE0A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1484280"/>
          <a:ext cx="8785440" cy="4680000"/>
        </p:xfrm>
        <a:graphic>
          <a:graphicData uri="http://schemas.openxmlformats.org/drawingml/2006/table">
            <a:tbl>
              <a:tblPr/>
              <a:tblGrid>
                <a:gridCol w="6467760"/>
                <a:gridCol w="1568160"/>
                <a:gridCol w="749520"/>
              </a:tblGrid>
              <a:tr h="30492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1º QUADRIMESTRE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93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1.915.454,6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60.821,6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.676.276,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787.318,1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548.139,7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02.091,3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025.154,5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51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869.684,8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.676.936,8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4,0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22.836,7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,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0/05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6902640"/>
                <a:gridCol w="1882800"/>
              </a:tblGrid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1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bril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76.394,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76.394,1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43.522,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8.100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092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737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2.590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quipamentos e Material Perman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4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4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2.767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</cp:lastModifiedBy>
  <dcterms:modified xsi:type="dcterms:W3CDTF">2019-06-24T13:49:26Z</dcterms:modified>
  <cp:revision>425</cp:revision>
  <dc:subject/>
  <dc:title>Slide 1</dc:title>
</cp:coreProperties>
</file>