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B84-CC16-4BE4-81FF-B32B8ED5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F9D-ED18-4677-A6FE-3C19195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FCA-4EB9-4493-A730-73EB809E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EBE-86F6-455C-AA70-55A2B368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B15-B1E0-42AB-9AAC-7C6863C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8E6-DC82-4CF4-88A8-868336D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3EC-41F4-424A-B547-F3A271C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92F-4C9A-4944-9BE7-4F296BF1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E68-3A96-4844-A62D-23F54960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5D2-7847-4A5E-9629-38FA82B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C1F-FE1B-4175-9D56-97EC4340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8BF-56F6-467D-8DF2-554116F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BAE-B5F9-475E-AC19-08354E9EB2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EE3D-ECA9-409D-8489-A428CCA1FA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1º QUADRIMESTRE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06.38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48.645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259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4.1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7.67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3.509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.996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2.58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.414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84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6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.18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494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.688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946.33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84.088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37.752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302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9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7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557.436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57.484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.499.95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7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041.838,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666.427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75.410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0.202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98.098,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103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3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86.869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7.809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9.059,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0.289,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6.956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3,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.711.636,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329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43.306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5FC-D49C-436D-8442-AB86E32EF15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72.024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730.771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41.25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6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00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933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692.843,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09.459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15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171.53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56.831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14.70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23.18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733.065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609.881,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1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8.240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3.425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3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654.850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11.306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56.455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09.718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8.419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92FA-274B-40DF-A61C-CA509D23C7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1919520"/>
                <a:gridCol w="1957320"/>
                <a:gridCol w="1903320"/>
                <a:gridCol w="1900440"/>
                <a:gridCol w="1104840"/>
              </a:tblGrid>
              <a:tr h="227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21.904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2.268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738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14.19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2.54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,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79.278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738.076,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758.797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93.96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85.645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7,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508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199.629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54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-72,87% inferior Despesa executada, em virtude de Empenho de Convênio cuja receita ainda não foi liberada, conforme mostrado no mês de março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6965-71E5-4378-8770-0809F4818B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78.86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74.883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52.204,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2ED-D721-4D12-969D-63416792DD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6.521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3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8.25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86.952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567.283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79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91.301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22.59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89.87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88.380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4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Saldo financeiro, caso persista, será para pagar o 13º Sal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51F-D748-4AFD-B918-8BED723B54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492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60.821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76.276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87.318,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548.139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02.091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025.154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69.684,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676.936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4,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22.836,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,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3.522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8.100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092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7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59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767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6-24T13:49:26Z</dcterms:modified>
  <cp:revision>425</cp:revision>
  <dc:subject/>
  <dc:title>Slide 1</dc:title>
</cp:coreProperties>
</file>